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08D0A-6817-43E6-AC63-4CE9BA953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65C4C-7AE3-4A2B-8052-1DBC788D8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9D616-D367-433A-87A2-BD424A0B0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8E079-C2E0-41C2-B344-178C1ED0C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65D12-033A-4B7D-AEBB-369F2E070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B06FA-4739-4D4F-99F6-688474FA7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0602C-6399-4D2A-AEF4-27E995C0B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AB57F-445F-4F3F-8C6B-B1A2DC306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6F308-BE55-43D1-8FEC-878BC8BC6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8ADDA-8608-4A65-84ED-7BBACE817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7935F-91A7-46E0-9FCC-049451887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B1266-BE25-48E8-95C1-EA39D3EDC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813A-A76F-478B-B81C-5CF366ABBA12}"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13000"/>
            <a:ext cx="7772400" cy="29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00"/>
                </a:solidFill>
                <a:latin typeface="Calibri"/>
              </a:rPr>
              <a:t>Conservation And Resource Substitution</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onservation</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stated before the</a:t>
            </a:r>
            <a:r>
              <a:rPr b="1" lang="en-US" sz="2600" spc="-1" strike="noStrike">
                <a:solidFill>
                  <a:srgbClr val="000000"/>
                </a:solidFill>
                <a:latin typeface="Calibri"/>
              </a:rPr>
              <a:t> conservation of resources </a:t>
            </a:r>
            <a:r>
              <a:rPr b="0" lang="en-US" sz="2600" spc="-1" strike="noStrike">
                <a:solidFill>
                  <a:srgbClr val="000000"/>
                </a:solidFill>
                <a:latin typeface="Calibri"/>
              </a:rPr>
              <a:t>is a vital part of resource management.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hemes include national conservation plans for areas of natural beauty and importance, like wetlands and coral reef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ever they also include smaller scale schemes where people are educated in how to help conserve resource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ngs like saving water, switching off lights to save energy, and education about how to treat the countryside all help to look after the resources of the world.</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restry</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Forestry </a:t>
            </a:r>
            <a:r>
              <a:rPr b="0" lang="en-US" sz="3100" spc="-1" strike="noStrike">
                <a:solidFill>
                  <a:srgbClr val="000000"/>
                </a:solidFill>
                <a:latin typeface="Calibri"/>
              </a:rPr>
              <a:t>is one industry where the conservation of resources is very important.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 some countries the natural wood resources are exploited, never to be replaced.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However an increasing amount of countries are introducing schemes to re-forest areas once the trees have been cut down, so that they can be harvested again once they have grown.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se are fast growing coniferous trees that take only about 25 years to reach maturity.</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ish Stocks</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ing and managing fishing stocks is also a very important management issu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fishing an area can mean that there will be a declining number of fish every yea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introducing fish quota's, saying how much each boat can catch each year, and by introducing rules about not fishing during the spawning season, fish stocks should be able to be conserv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ecycling</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cycling</a:t>
            </a:r>
            <a:r>
              <a:rPr b="0" lang="en-US" sz="3200" spc="-1" strike="noStrike">
                <a:solidFill>
                  <a:srgbClr val="000000"/>
                </a:solidFill>
                <a:latin typeface="Calibri"/>
              </a:rPr>
              <a:t> is a vitally important part of the management of natural resou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tle banks, paper and tin recycling are all common features of our lives now, and they all help conserve the resources of the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many other natural products that can be recycled and the more that there are, the better for the remaining natural resou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llution Contro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llution Controls</a:t>
            </a:r>
            <a:r>
              <a:rPr b="0" lang="en-US" sz="3200" spc="-1" strike="noStrike">
                <a:solidFill>
                  <a:srgbClr val="000000"/>
                </a:solidFill>
                <a:latin typeface="Calibri"/>
              </a:rPr>
              <a:t> have been introduced to try to reduce emissions from the use of fossil fuels and other natural resou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been heavily polluting other natural resources such as the atmosphere and the oceans, causing problems from a local to global sc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ssil Fuels</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ssil Fuel</a:t>
            </a:r>
            <a:r>
              <a:rPr b="0" lang="en-US" sz="3200" spc="-1" strike="noStrike">
                <a:solidFill>
                  <a:srgbClr val="000000"/>
                </a:solidFill>
                <a:latin typeface="Calibri"/>
              </a:rPr>
              <a:t> power stations release harmful carbon dioxide into the atmosphere, which adds to the greenhouse effec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lso contribute emissions to acid r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ntrolling pollution like this has to be done on a government level, and in the UK tough new controls on the amounts of pollution allowed by power stations have been introduc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ars</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rs</a:t>
            </a:r>
            <a:r>
              <a:rPr b="0" lang="en-US" sz="2200" spc="-1" strike="noStrike">
                <a:solidFill>
                  <a:srgbClr val="000000"/>
                </a:solidFill>
                <a:latin typeface="Calibri"/>
              </a:rPr>
              <a:t> are one of the worst polluters in the world, giving off a variety of harmful gases, including carbon dioxide and carbon monoxid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are more and more cars on the roads and this trend will surely continu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only do cars pollute, but they also use up the oil reserves of the world.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itiatives to make cars cleaner and more fuel efficient have been introduced relatively successfully, for instance all new cars now have to have catalytic converter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oblem is that all of these things add to the price of the car, and the manufacturer doesn't want to put the prices up because they may lose customer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a difficult balanc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03:44:11Z</dcterms:created>
  <dc:creator>Dell_02</dc:creator>
  <dc:description/>
  <dc:language>en-US</dc:language>
  <cp:lastModifiedBy>Dell_02</cp:lastModifiedBy>
  <dcterms:modified xsi:type="dcterms:W3CDTF">2011-01-28T03:56:57Z</dcterms:modified>
  <cp:revision>2</cp:revision>
  <dc:subject/>
  <dc:title>Conservation And Resource Substitution</dc:title>
</cp:coreProperties>
</file>